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03F-41A4-4AE5-8F27-1AB6DB96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B40-A396-4207-8536-C919FC30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79E-4A35-4726-94DE-78ED533F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55B-BFFE-4CD1-A5EE-99EAA82D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22C-C3C2-48AE-8D94-97AB64C7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0A5-2E93-4EA5-A95B-7C6FBDD4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232-F207-4573-9696-5ADBF6B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E77-DB00-49E7-B2B3-8157629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FF0-4371-4456-BC2F-EFC07DA7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4FC-380F-44EC-BC36-7D703B4B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3C9-E659-478A-8C5F-C0797B04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45D-27CD-4521-9246-E2EF91A6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3D9A-A40F-41B0-A7F6-D90861338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907920"/>
            <a:ext cx="4321440" cy="4897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341360"/>
            <a:ext cx="331128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1700280"/>
            <a:ext cx="2447640" cy="3384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080" y="996840"/>
            <a:ext cx="1721520" cy="36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5m x H:6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4960" y="1709640"/>
            <a:ext cx="1721520" cy="368280"/>
          </a:xfrm>
          <a:prstGeom prst="rect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1m x H:6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51640" y="98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907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50360" y="9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17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73960" y="1386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72680" y="1333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2240" y="2357280"/>
            <a:ext cx="1721520" cy="368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57m x H:5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8160" y="5445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4920" y="501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640" y="46465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Fidu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125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1916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565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3808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40053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91440" y="5969160"/>
            <a:ext cx="30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line MEMPHYS 13/2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Cam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16:34Z</dcterms:created>
  <dc:creator>J.E Campagne</dc:creator>
  <dc:description/>
  <dc:language>en-US</dc:language>
  <cp:lastModifiedBy>J.E Campagne</cp:lastModifiedBy>
  <dcterms:modified xsi:type="dcterms:W3CDTF">2006-02-13T08:16:55Z</dcterms:modified>
  <cp:revision>1</cp:revision>
  <dc:subject/>
  <dc:title>Diapositive 1</dc:title>
</cp:coreProperties>
</file>